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366-923E-4935-858B-72CDAAA1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744-3BFB-4D5A-8CE2-95058EFC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63E-A396-49F6-97A6-82088815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E4E-048C-4F5E-BE46-D9EB1620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CE26-DAB8-480A-B7D0-95152BD0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FB34-C25A-4772-8830-2958EBB9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59A6-ADA2-4803-BD7A-E691AEB9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2EE0-39EC-47A3-BB18-8B7E1C64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8EE7-2687-4C80-B7E0-B47FFA46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A476-3E99-4488-BC35-B2857BE3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14C0-225A-4F50-A538-430DD787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1C1-9657-4AB9-82C0-6873BF77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7158-53E3-4898-8604-53F8EC31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A5E9-AF27-41F6-9533-1C92BA28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6DC7-00C8-491C-9C86-80F75760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DB86-90A4-4FA9-8D93-478E4EE6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21A8-1143-4291-883F-80C23A4D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C49-4FE0-49ED-A66E-CBAD704A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D1F-2688-40DF-81E8-1BE42D1A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3F7-B1B3-4E42-96F1-BE39A0E0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CF4-2CC0-4D97-8339-0F2C6AE7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C72-0FD0-4AA7-88C8-445DDA0D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A56-79E3-4842-AD1A-14E03A2C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910-79BA-45F7-8689-2D3705A9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7B18-FE5D-4676-9EAD-31C2A4A8DFD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AE30-EB29-473D-83E4-4CB11A9FFC2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The Imperfect Tense:</a:t>
            </a:r>
            <a:br>
              <a:rPr sz="6600"/>
            </a:b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Regular Verbs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86200" y="4114800"/>
            <a:ext cx="16095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Here are all the forms of -ar verbs in the imperfect.  Notice the accent mark on the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nosotro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form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5410080"/>
            <a:ext cx="4114800" cy="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CAMINAR (to walk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23852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Since the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the         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Ud./él/ella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forms are the same, we often use the subject pronouns to avoid confusion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57200"/>
            <a:ext cx="314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560" y="2232000"/>
            <a:ext cx="753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Let’s do a few more verbs.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3962520"/>
            <a:ext cx="55627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ATINAR (to skat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086240" y="160020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USAR (to us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47676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JUGAR (to play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70536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Now we will learn the -er/-ir verb endings in the imperfect tens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4495680"/>
            <a:ext cx="39625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COMER (to eat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42670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2670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VIVIR (to liv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19360" y="20574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2670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42670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reterite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You have already learned to talk about the past using the preterite tense for actions that began and ended at a definite tim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5562720"/>
            <a:ext cx="426744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440" y="2057400"/>
            <a:ext cx="685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Let’s review once more.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3962520"/>
            <a:ext cx="4495680" cy="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COMER (to eat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2670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42670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VIVIR (to liv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9360" y="20574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42670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42670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reterite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ntó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en la fiesta anoch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sang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at the party last nigh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Completed past action.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The imperfect tense is another way to talk about the past.  We use it to describe actions without any indication of their beginning or e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5867280"/>
            <a:ext cx="37339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ntaba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was singing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No indication of beginning or end.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We use the imperfect to talk about actions that happened repeatedly in the past.  In English we often say      “used to” or “would” to express this idea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5486400"/>
            <a:ext cx="251460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Generalmente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minaban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mucho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Generally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they would walk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a lo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Jugaban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con otros niños de la familia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They used to play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with other children in the family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xpressions such as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generalmente, a menudo, muchas veces, todos los días, siempre,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nunca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can cue us to use the imperfec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6T21:49:25Z</dcterms:created>
  <dc:creator>NIHS</dc:creator>
  <dc:description/>
  <dc:language>en-US</dc:language>
  <cp:lastModifiedBy>technician</cp:lastModifiedBy>
  <dcterms:modified xsi:type="dcterms:W3CDTF">2011-03-10T17:30:01Z</dcterms:modified>
  <cp:revision>5</cp:revision>
  <dc:subject/>
  <dc:title>No Slide Title</dc:title>
</cp:coreProperties>
</file>